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E26D-F8FD-417D-9042-B5B55C69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69F-1875-4B45-A0D9-41DDDE2B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7A80-BF7C-4CEF-BC32-AF7E3E90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7431-E2BA-499C-96DC-9705EE9B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4F85-CA93-4B8F-8C12-A28F0B5E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B4C-E805-4BF3-B6E5-6062CE43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BE0E-F46C-4381-B4FA-4CAAEEC9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0BCE-76CA-4409-BD65-88E9BDC4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866-7F55-48C3-B747-38EA0AF4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436-4B1C-4E6A-BD97-F7606B0D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9A3-0403-4844-B4F8-5969DCEC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5BF-99E1-4B39-A8D4-7E8BDEF1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5065-F2C0-474A-9C39-6169202B6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819520" y="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Our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838080"/>
            <a:ext cx="3733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school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5029200"/>
            <a:ext cx="708660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00cc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By Be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00cc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logo1" descr=""/>
          <p:cNvPicPr/>
          <p:nvPr/>
        </p:nvPicPr>
        <p:blipFill>
          <a:blip r:embed="rId1"/>
          <a:stretch/>
        </p:blipFill>
        <p:spPr>
          <a:xfrm>
            <a:off x="2666880" y="1871640"/>
            <a:ext cx="335304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schoo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school is Glenb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’s a primary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Tea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Willi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Dav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Robins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Har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Math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At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J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Dix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 Th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mony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sw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 p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t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us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8:21:45Z</dcterms:created>
  <dc:creator>4glenb2</dc:creator>
  <dc:description/>
  <dc:language>en-US</dc:language>
  <cp:lastModifiedBy>4glenb2</cp:lastModifiedBy>
  <dcterms:modified xsi:type="dcterms:W3CDTF">2009-09-30T09:05:10Z</dcterms:modified>
  <cp:revision>1</cp:revision>
  <dc:subject/>
  <dc:title>PowerPoint Presentation</dc:title>
</cp:coreProperties>
</file>